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CB1-2601-4458-9F28-84557ED4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1CB-267D-4104-B462-726F074C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856-F04D-4A50-B296-60B5CFE5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573-41DF-4413-A8D6-926777FA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302-8471-4BF0-ADEC-09D34459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18A-73DE-4E94-B74B-2C1AA337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EC2-A70E-4AFB-971A-E6B90411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4F0-B34B-40AF-9A38-411673B7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A37-BDFD-4EF4-B342-D5AFF130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6D7-62A4-4BB0-9268-F4DF967A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FCD-2650-4682-808F-F4BE20F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A0BA-28B6-4101-9A2D-5D569A42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768-F063-4F84-9BA3-57D00BD16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47636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nviro-school power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Jordan and A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00360" y="4149720"/>
            <a:ext cx="2714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2:04:22Z</dcterms:created>
  <dc:creator>Ministry of Education</dc:creator>
  <dc:description/>
  <dc:language>en-US</dc:language>
  <cp:lastModifiedBy>Ministry of Education</cp:lastModifiedBy>
  <dcterms:modified xsi:type="dcterms:W3CDTF">2009-03-17T22:16:30Z</dcterms:modified>
  <cp:revision>2</cp:revision>
  <dc:subject/>
  <dc:title>Slide 1</dc:title>
</cp:coreProperties>
</file>